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9D70-C437-46C9-B4A6-47A670A71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04BB-2776-471E-BCD3-9A6B156C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CAF-A9A9-4E3A-81EF-DBE3B9C6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24B3-8220-48C4-9BFE-B323D5B7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6A40-A4B9-4B1B-8B51-FD0F9B8E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8D61-BC06-40AD-89F2-90834427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007C-CE93-4826-AA3B-80A072A1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DA74-0D3B-423D-9A06-D08E3B67B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       Slide </a:t>
            </a:r>
            <a:fld id="{B21113F1-4591-4CDC-A641-81B3EFD5989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762520"/>
            <a:ext cx="9144000" cy="1095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B2D4D3C-5FB9-449B-966F-CECBD793ADAB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BBEAAD4-6588-45F6-97E7-3B5671E0F158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0B56729-D83A-421A-BFEB-0FA69BDCBAAA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5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F42973F-7B3E-4E2B-9D31-37AF4BBBAE45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6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F75DF933-019A-4933-87A7-C0A79C346646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7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D09189C-4A92-4D13-9AC2-EAEB5196B3C4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8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77E3F524-F150-4897-96D8-582AFDD0243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89000" y="5122800"/>
            <a:ext cx="87660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: Connecting to the World’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 12 Browser and Searc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Browsing History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links for sites recently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1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7CBB4FFF-18BA-46FA-AC6C-E72D56C75FC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987480" y="2320920"/>
            <a:ext cx="80233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avorites 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5232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marks in Firef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links fo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eb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E017DB5-BCC1-4681-8041-3F0EC90AC743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5526000" y="1704960"/>
            <a:ext cx="3257640" cy="23144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1276200" y="3473280"/>
            <a:ext cx="2962440" cy="824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3"/>
          <a:stretch/>
        </p:blipFill>
        <p:spPr>
          <a:xfrm>
            <a:off x="2522520" y="4259160"/>
            <a:ext cx="2647800" cy="2340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/>
          <p:cNvPicPr/>
          <p:nvPr/>
        </p:nvPicPr>
        <p:blipFill>
          <a:blip r:embed="rId4"/>
          <a:stretch/>
        </p:blipFill>
        <p:spPr>
          <a:xfrm>
            <a:off x="5724360" y="4259160"/>
            <a:ext cx="18766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"/>
          <p:cNvSpPr/>
          <p:nvPr/>
        </p:nvSpPr>
        <p:spPr>
          <a:xfrm>
            <a:off x="743040" y="457200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Straight Arrow Connector 3"/>
          <p:cNvCxnSpPr/>
          <p:nvPr/>
        </p:nvCxnSpPr>
        <p:spPr>
          <a:xfrm flipV="1">
            <a:off x="1361880" y="4505040"/>
            <a:ext cx="896040" cy="4370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392" name="TextBox 11"/>
          <p:cNvSpPr/>
          <p:nvPr/>
        </p:nvSpPr>
        <p:spPr>
          <a:xfrm>
            <a:off x="7724880" y="4724280"/>
            <a:ext cx="123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" name="Straight Arrow Connector 12"/>
          <p:cNvCxnSpPr>
            <a:stCxn id="392" idx="0"/>
          </p:cNvCxnSpPr>
          <p:nvPr/>
        </p:nvCxnSpPr>
        <p:spPr>
          <a:xfrm flipH="1" flipV="1">
            <a:off x="7724520" y="4258800"/>
            <a:ext cx="619920" cy="46584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arching for Information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n a Websit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90720" y="1495080"/>
            <a:ext cx="769608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an individual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B5871B18-3102-4BC1-8078-65BD5B3DEAF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703440" y="3195720"/>
            <a:ext cx="77580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arching for Information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n a Websit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20480" y="1600200"/>
            <a:ext cx="826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 single word used to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rch/G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hen press enter or one of these buttons, the search engine goes out to find what you are looking for based on your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 problem you want the search tool to resolve.  Search tools use mathematical logic to complete a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swers to the query.  When search is complete, list of results (hits)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114A6DE-02AA-4432-9C7B-27BC7E7968E4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echniques to Search Web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76120" y="1538280"/>
            <a:ext cx="85917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Engin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performs keyword searches to pinpoint conten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, Yahoo! Windows Live, Ask, RedZ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sults occur naturally based on search criteria and math applied by Google or another search engine prov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fluenced by advertising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sored Lin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inks may be shaded in color, be on the side, and/or near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rs paid for these sites to be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most relevant to your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1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D4F7D063-4D12-455F-81DA-FFF86E98E82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arching Tip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99840"/>
            <a:ext cx="85629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” brings u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kiing, skis, skier, sk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ation doesn’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word searches may result in lists that correlate to al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cottonwood canyon = Big Art festival in Western Canada on the shores of Cottonwood lake that is four miles up at a remote Canadian can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searc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quotation marks: “big cottonwood cany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ces a search for the EXACT sequence of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 insignificant words are not sear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, I, it, the, 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ingle digits li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12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92D7009-1CD6-43A1-A025-EF6277F403C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3:29:38Z</dcterms:created>
  <dc:creator>Jean Bissell</dc:creator>
  <dc:description>Copyright 2006 South-Western/Thomson</dc:description>
  <dc:language>en-US</dc:language>
  <cp:lastModifiedBy>Lenessa Keehn</cp:lastModifiedBy>
  <dcterms:modified xsi:type="dcterms:W3CDTF">2011-04-18T14:52:46Z</dcterms:modified>
  <cp:revision>63</cp:revision>
  <dc:subject/>
  <dc:title>Slide 1</dc:title>
</cp:coreProperties>
</file>